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052-F530-4E8E-8BEC-56841842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643-9A2F-49AB-B2AB-19A89AD1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D6E-E91B-4C0A-A55D-FC9A1515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305-0829-4051-896C-56B52491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EB7A6-B809-451F-BFAD-D4E8E58F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BA666-D26D-41EA-B820-5A94BA33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3E1E3-CC32-4ECA-AA60-5E847F8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2A031-C4BC-4CEC-8890-001FE40B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01029-F8D8-4FD2-8B58-C16B1FD2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6FAD2-8B5F-456D-9D70-51A02AA7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A1E5F-0653-4E88-9598-79B3EDA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126-7B0A-45C3-BFC3-83A5AFF2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A0BDB-E8DB-40EA-82A9-EDA34C2F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37334-9ACE-46B6-94C1-E90CD474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561EF-0BE4-4CE4-A088-B0549195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DB270-DC64-4306-AFF0-E328872F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9539F-27ED-4854-9B7E-1032D5E8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A0488-0072-4AF6-83F6-54A93259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03F5-33F7-4FD2-8180-56119067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3C3A-239F-4C69-B06A-121D8AF5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677C-EBA6-4F39-AE89-6E990677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F235-6BF5-4DD7-AD25-2B26268A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493-9355-4F60-8630-2D38FA90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26C5-2975-4499-AA9B-B40EB228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DA74E-128B-45BD-982F-17D87343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DD09-F57F-445C-80C9-1719FA7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7B6E-B2BF-4E69-9C00-268286D3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5443-E51D-44EF-8C05-5AE392F3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1DCA-8E83-4753-A8A5-440D9879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936E-5464-4AFD-B8FA-788BC1A7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7003F-11F1-4CC6-81D7-BACB69C8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C8D64-6D73-4332-983C-1A4F8355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14E060-5E1C-44B0-A7B0-5E5BC8C8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6E5-8484-4787-8669-86D68457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7994F-0FF1-4764-AAC8-759F1DC9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474DF-3589-43F5-AAFC-29A6832C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BE988-9278-4A7E-B25D-414A4890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6D43C-8E82-43AD-A695-FD3C2D46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833EF-AEF4-4439-99E7-2292DFDD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3CF23-5865-47A6-9C76-0EC054FA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37EDDE-AC57-4E3C-A4D5-9DFCDCC5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73C98E-DDEE-4977-AE63-29BDA7FD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C1FF9-18AF-432D-A641-0C5A132D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12D-C2B2-4674-93A2-F22EFB23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3E4-48FF-4F71-A46F-891ABAFA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C4E-C143-469F-821E-28402E1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B3E-0F15-4B0F-9881-89EF74B3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E11-4ACA-42A5-82B5-103B4A1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9DE-B146-4081-A5A0-44634ECE2A8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A916-8192-4729-B6C0-516D9597412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C33B-ED68-4191-9BA0-A999AFE1B1D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95FA-A0D4-4C63-BF51-5571CAFB6F6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Emma Pri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Jae Ki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en Sh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Caroline Sim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rometer: Device used to measu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atmospheric press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56200" indent="-2372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mospheric pressure: collisions of air molecules with objects. Decreases as altitude rises b/c density decreas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56200" indent="-2372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n a barometer, measured column of Hg is supported by air molecules colliding with surface Hg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nometer: Device used to measu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boiling poi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56200" indent="-2372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oiling point: when particles are heated enough such that they have enough kinetic energy to vaporiz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56200" indent="-2372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s vapor collects in tube, Hg rises in a measured colum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a liquid heats, some of the particles at the liquid’s surface overcome the forces that keep them in liquid form, and escape as a g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this happens, the kinetic energy of the particles in the liquid increases and the overall temperature of the substance increa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When a liquid is heated to a temperature at which particles throughout the liquid have enough kinetic energy to vaporize, the liquid begins to boi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iquid boils when its vapor pressure is equal to the external press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external pressure increases, boiling point increa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external pressure decreases, boiling point decrea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t higher altitudes, pressure is lower, so the boiling point is low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553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boiling point is the pressure of a liquid at 101.3 KP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: the normal boiling point of water is 100 degrees Celsiu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2:58:21Z</dcterms:created>
  <dc:creator>14csimon</dc:creator>
  <dc:description/>
  <dc:language>en-US</dc:language>
  <cp:lastModifiedBy>14csimon</cp:lastModifiedBy>
  <dcterms:modified xsi:type="dcterms:W3CDTF">2012-04-26T12:59:43Z</dcterms:modified>
  <cp:revision>3</cp:revision>
  <dc:subject/>
  <dc:title>Chapter 13 Objectives #13-16</dc:title>
</cp:coreProperties>
</file>